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07D-8D2B-4514-A18A-C50586C3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083-1983-4760-9ED1-A611B7B3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44F-4C2A-443D-86A6-6F2CF235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26B-7502-4852-9F03-5E7DCC2B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502E-22C7-40E9-9894-5C8AA59E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0F0F-0020-417E-B801-BD94340A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57E6-4727-42AD-9331-AA553DDC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E649-02C8-4E59-B067-FE2C72B2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A142-148C-4E84-B5D1-31212365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88D7-53C2-46CD-AA99-54F07478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BB90-011B-4F20-A44E-CDA2C7D1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6EF-772B-477A-BD57-0BEB2402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C9E-A123-4A46-9676-73280D3B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D88A-64DD-4ADD-9AD3-7CD2143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B2A2-A4E4-4407-9031-D9872F9A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67FD-C2C1-4852-802C-42729306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6060-5E3F-4AE2-B19A-907C1DF5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4891-AD11-4D8E-8629-0B364682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4B7B2-A7FA-4A5F-B9C1-D71E0F5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1D6B-027D-4440-B812-746C0EBA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C5CEE-7CC1-47A8-9534-5BD3F655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86DD-7C8F-45FA-8084-FC0FDC5D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E69-3292-4635-A0BA-67290A0A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1386-0C69-4F3B-9B48-84F74AC1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A617-7E50-4D3C-99A7-BB0E6A7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9A0D8-FB54-42FE-97C3-0081584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DCCB-3C4B-44F6-A17D-CE8689B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7109-1C84-4302-9706-19DC4DAA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451D3-48DC-477F-8B6F-5A53702C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2A86-A919-4E29-9941-919C56D3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BF5D-2228-43AF-B1EC-67C0B996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2D5C-8545-4ACE-B348-162894E5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AB0B-E7D9-4F42-9CFA-428A7950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F61-87A7-42C4-A3DE-A4B2C96D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F3BA-B3DF-4506-A30F-1FF827E9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9EF2-9C19-417F-8CEB-461776EF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BFCCB-F7A9-417C-A4A5-CBAD1E6A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CAFA-7462-426B-B555-7271D64F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94297-9170-46B0-973D-E62A9AC3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094A-8680-4109-B5CD-961CAA9B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FF779-DAD2-41DA-AFAE-CBFF29AF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F5A73-EA66-4FDC-95C2-09C3A9F6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8BFF8-3E2D-4A28-AEB8-9D2425ED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6ACD4-E071-4DCE-BA1C-CADA1B2F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759-4886-4B60-A19E-81F06452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F2B95-1D72-4218-8690-90F67D02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1FAB4-DAA6-4ACE-9D1B-9FA87441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8029E-9A48-42CD-956E-F21B9579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6CE0-1FB1-4BEB-8128-4B7466B0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69EF2-D09F-4271-90D8-651F0535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474FB-34D1-4240-899F-0E465A7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3449F-4B66-4AA9-875F-90F98691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8FFA-5B72-4434-AC11-DC324332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94BA2-B92F-4A40-B5B4-ACC6F6A1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5AD53-E743-4F92-8596-8C70EB75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43B-7908-4CB0-9F0E-F2F472AD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8F474-3262-4FAA-9692-2D1348AA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180-C2BF-4B2A-BE62-461E5B53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95F-A6C4-4CC9-B911-484B30A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786-08A3-4E2A-9070-41E15082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76A-E553-412E-8872-6C3D333440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9707-3E62-43E3-A4D9-6849A0038E2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01B-94F0-475D-A152-D74B683018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0086-D76B-4CDC-9C22-4D0F7D418D2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0C6D-EB18-4505-9D23-C4AB94B7264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litva.ru/" TargetMode="External"/><Relationship Id="rId3" Type="http://schemas.openxmlformats.org/officeDocument/2006/relationships/hyperlink" Target="http://www.liveinternet.ru/" TargetMode="External"/><Relationship Id="rId4" Type="http://schemas.openxmlformats.org/officeDocument/2006/relationships/hyperlink" Target="http://www.zoovet.ru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Отряды пти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200400" y="3505320"/>
            <a:ext cx="4572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Л. И. Наб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 СОШ №80 им. В. П.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п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общую характеристику отрядов птиц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-отряд Дневные хищные пт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-отряд Сов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-отряд Ку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-отряд Воробьин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-отрядАист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упление с характеристикой признаков указанного отряда, заполнить таблицу в рабочей тетр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7940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447920"/>
          <a:ext cx="8229600" cy="512100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5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533520"/>
          <a:ext cx="8077320" cy="60213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умеренной длины, у большинства с острыми когтями. Клюв крючковидный, изогнут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треб, сокол, гри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ороткие или умеренно длинные, наружный палец может быть обращен и впереди и назад. Надклювье загнутое, с острыми кра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а, пустыни, тундра, го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н, ушастая сова, домовой сыч, сипух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средней длины, ильные; крылья короткие, широкие; летают тяжело. Клюв короткий, сильный; надклювье слегка загнуто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и, леса, пустын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к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ев, фазан, индейка, куропатк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гах первый палец обращен назад. строение крыльев и клюва разнообраз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, дрозд, ласточка, синица, жаворон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е ноги, гибкая длинная шея, маленькая голова, Клюв удлиненный, заостренный. Перьевой покров рыхлый, крылья относительно большие, широкие. Хвост коротки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пля рыжая, выпь малая, аист бел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2" name="Rectangle 134"/>
          <p:cNvSpPr/>
          <p:nvPr/>
        </p:nvSpPr>
        <p:spPr>
          <a:xfrm>
            <a:off x="30492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вучить видеозапись представителей отрядов в виде монолога животного, указав признаки, распространение, образ жизни, голос данного представ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ел степ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а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х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ек пол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 большая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россворд «Птицы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изонтали: 1. Мелкий представитель воробьинообразных. 2. Нелетающая, но хорошо плавающая и ныряющая птица. 3. Вид дро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Крупная нелетающая птица. 6. Птица из отряда воробьинообразных, в песне которой слыш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Ты Витю видел?». 8. Представитель воробьинообразных, мельче воробья. 9. Крупный дневной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0. Представитель воробьинообразных, прекрасный певец. 16. Вид крупных говорящих попуг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 Птица из семейства вьюр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вертикали: 4. Птица — дневной хищник. 6. Мелкая утка. 7. Яркоокрашенный представитель курообразных. 8. Птица из отряда воробьинообразных. 11. Представитель вр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2. Синица, вьющая гнездо из пуха в виде «варежки». 13. Мелкая сова.  15. Крупная морская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какие из этих птиц действительно могут поселиться в сквореч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кроссвор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изонтали: 1. Воробей. 2 . Пингвин. 3. Рябинник. 5. Страус. 6. Чечевица. 8. Пищуха. 9. орел. 10. соловей. 14. Скворец. 16. Ара. 17. Чи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вертикали: 4. Ястреб. 6. чирок. 7. Фазан. 8. пеночка. 11. ворон. 12. Ремез. 13. Сыч. 15. Буревес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 воробей, пищуха, скворец, пен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икторина «Живые синонимы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 в русской речи мы используем слова-синонимы, которые могут отразить и характер человека, внешний вид, особенности передвижения, особенности разговора. Например, мы говорим «топаешь как медведь», «это и ежу понятно», «голодный как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какими птицами сравнивают человека, когда говор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Щебечет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Ворковать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Шипеть,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Накаркать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Долбить (говорить одно и то же)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Надутый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Плыть (идти плавно)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тветы на вопросы викторин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Г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В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Дят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Инд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 интересно было сегодня работат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узнали нового и интерес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WordArt 4"/>
          <p:cNvSpPr txBox="1"/>
          <p:nvPr/>
        </p:nvSpPr>
        <p:spPr>
          <a:xfrm>
            <a:off x="1295280" y="22860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ведём  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многообразие птиц различных отря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особенности строения птиц, связанные с образом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овать роль птиц в природе и хозяйственной деятельности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ть находить известных птиц на рисунках, фотографиях, таблицах, находить необходимую информацию в тексте, электронном пособ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Латюшин В. В., Шапкин В. А. Биология. Животные: Учебник для 7 кл. общеобразоват. учеб, заведений. - М.: Дрофа, 2008 - 304 с.: и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. Латюшин В.В. Биология. Животные 7 класс Тематическое и поурочное планирование к учебнику В.В. Латюшина и В.А.Шапкина «Биология. Животные»: Пособие для учителя 2-е изд.,стереотип-М.: Дрофа, 2003-193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И.Ф. Ишкина Биология. 7 класс. Поурочные планы по учебнику В.В. Латюшина и В.А.Шапкина. Издательство «Учитель АСТ», Волгоград 2002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Анашкина Е.Н. Кроссворды для школьников. Биология.- Ярославль.6 «Академия развития», 1997.-128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Алексеев В.А. 300 вопросов и ответов о животных. –Ярославль: Академия развития, 1997.-240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Мультимедийный справочник-определитель. Животный мир России. Птицы. Европкйская Россия, Урал, Западная Сибирь//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O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Авторы: В.К. Рябицев, О.Д. Вепринцева, Н.Ю. Киселева, А.А. Мосалов, Н.П. Овсянникова,  С.А. Букреев, О.В. Безюмки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Фото Императорский пингвин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alitva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Фото Африканский страус //subaryata.org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Фото Американский нанду// alexsh16.livejournal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Фото Казуар// vbkfzrjitxrf.beon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Фото Серый гусь// en.academic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Фото Казарка краснозобая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veintern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Фото Лебедь шипун //zoopar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Фото Орел степной// pesi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Фото Сова белая// fotki.yandex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Фото Глухарь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zoov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ото Конек полевой //lifecity.com.u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Фото Цапля большая белая// www.omskhunter.com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Задани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те рисунки птиц разных отрядов. Выполните следующие зад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название птицам, изображённым на фо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отряды, к которым относятся данные пт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признаки отряда. (по выбор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из них занесены в красную книгу Новосибирской обла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8" descr="http://im4-tub.yandex.net/i?id=108655168&amp;tov=4"/>
          <p:cNvPicPr/>
          <p:nvPr/>
        </p:nvPicPr>
        <p:blipFill>
          <a:blip r:embed="rId1"/>
          <a:stretch/>
        </p:blipFill>
        <p:spPr>
          <a:xfrm>
            <a:off x="6477120" y="1828800"/>
            <a:ext cx="2074680" cy="196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http://im0-tub.yandex.net/i?id=6145330&amp;tov=0"/>
          <p:cNvPicPr/>
          <p:nvPr/>
        </p:nvPicPr>
        <p:blipFill>
          <a:blip r:embed="rId2"/>
          <a:stretch/>
        </p:blipFill>
        <p:spPr>
          <a:xfrm>
            <a:off x="6770520" y="4495680"/>
            <a:ext cx="1748160" cy="213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1" descr="http://im8-tub.yandex.net/i?id=11458522&amp;tov=8"/>
          <p:cNvPicPr/>
          <p:nvPr/>
        </p:nvPicPr>
        <p:blipFill>
          <a:blip r:embed="rId3"/>
          <a:stretch/>
        </p:blipFill>
        <p:spPr>
          <a:xfrm>
            <a:off x="2514600" y="44956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i?id=99095301&amp;tov=4"/>
          <p:cNvPicPr/>
          <p:nvPr/>
        </p:nvPicPr>
        <p:blipFill>
          <a:blip r:embed="rId4"/>
          <a:stretch/>
        </p:blipFill>
        <p:spPr>
          <a:xfrm>
            <a:off x="320040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8"/>
          <p:cNvSpPr/>
          <p:nvPr/>
        </p:nvSpPr>
        <p:spPr>
          <a:xfrm>
            <a:off x="12193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40384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73915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990720" y="418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3"/>
          <p:cNvSpPr/>
          <p:nvPr/>
        </p:nvSpPr>
        <p:spPr>
          <a:xfrm>
            <a:off x="31240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5"/>
          <p:cNvSpPr/>
          <p:nvPr/>
        </p:nvSpPr>
        <p:spPr>
          <a:xfrm>
            <a:off x="5334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73915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1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6" descr=""/>
          <p:cNvPicPr/>
          <p:nvPr/>
        </p:nvPicPr>
        <p:blipFill>
          <a:blip r:embed="rId6"/>
          <a:stretch/>
        </p:blipFill>
        <p:spPr>
          <a:xfrm>
            <a:off x="457200" y="4495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8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азуар. Отряд Казуа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Лебедь шипун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Африканский страус. Отряд Страус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Казарка краснозобая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ерый гусь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Императорский пингвин. Отряд Пинг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Американский нанду. Отряд Нанду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те рисунок. Выполните следующие зад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название птице, изображённой на ф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ть отряд, к которому относится данный ви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?id=11231&amp;tov=6"/>
          <p:cNvPicPr/>
          <p:nvPr/>
        </p:nvPicPr>
        <p:blipFill>
          <a:blip r:embed="rId1"/>
          <a:stretch/>
        </p:blipFill>
        <p:spPr>
          <a:xfrm>
            <a:off x="914400" y="129528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i?id=86208267&amp;tov=3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i?id=35598883&amp;tov=4"/>
          <p:cNvPicPr/>
          <p:nvPr/>
        </p:nvPicPr>
        <p:blipFill>
          <a:blip r:embed="rId3"/>
          <a:stretch/>
        </p:blipFill>
        <p:spPr>
          <a:xfrm>
            <a:off x="609480" y="42670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i?id=23074610&amp;tov=2"/>
          <p:cNvPicPr/>
          <p:nvPr/>
        </p:nvPicPr>
        <p:blipFill>
          <a:blip r:embed="rId4"/>
          <a:stretch/>
        </p:blipFill>
        <p:spPr>
          <a:xfrm>
            <a:off x="3429000" y="42670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?id=3198956&amp;tov=3"/>
          <p:cNvPicPr/>
          <p:nvPr/>
        </p:nvPicPr>
        <p:blipFill>
          <a:blip r:embed="rId5"/>
          <a:stretch/>
        </p:blipFill>
        <p:spPr>
          <a:xfrm>
            <a:off x="60958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11430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8098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8580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5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828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791320" y="914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86728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группа- Орел степной. Отряд Дневные хищные птицы (Соколообраз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группа- Сова белая. Отряд С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группа- Глухарь. Отряд Кури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группа- Конек полевой. Отряд Воробьин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группа- Цапля большая белая. Отряд Аист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4-10T15:0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